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14091-75D9-4BC0-A83A-A94E8FCE1E64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3B146-7141-4893-9373-87D497BD5511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757BF-400E-44FB-9CE4-2F2CD713A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B556C-571A-40A1-8010-159C8DD5C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1BE54-43E4-4775-9598-747DEF14A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F6C58-87A4-4A0A-A41D-6480C56D5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9E1B6-5383-414E-961E-9AF210846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278C6-6CE7-4E15-8D8A-B2CCBE09E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E4861-1ED3-4D0C-93F2-C8E5ECA90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6E06D-26BC-415E-BBE0-088ECE190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29EB8-6178-4F64-904A-E6760662F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C9CBA-9E8F-43C2-985E-DCD908ECE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F345A-9823-4B0F-A5E7-C4F0446B3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87F99-8428-4E64-91FC-E8BF88436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0CA72-48CE-46DE-9631-858EA214BA39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691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영남대학교의료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80520" y="4952880"/>
            <a:ext cx="8533080" cy="134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해용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승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3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기간 </a:t>
            </a:r>
            <a:r>
              <a:rPr b="0" lang="en-US" sz="25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9.01.28 ~ 2.20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위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2" name="Picture 5" descr="map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교 통 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반 버스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순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순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-1, 410, 410-1, 405, 452, 503, 604, 805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달서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, 651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하철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선 영대병원역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대구광역시 남구 대명동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17-1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연락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53-623-8001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남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장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넥타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검정색 종류의 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블라우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장 단정히 할 것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!!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토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격주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권구입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,0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-332640">
              <a:lnSpc>
                <a:spcPct val="6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재활치료 분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층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신경계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FES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7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층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동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onference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목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&amp; topic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있을수도 없을수도 있으며 일정에 따라 달라진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보통 짧으면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5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길면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정도 소요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시로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report 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일지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part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별로 틀리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)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est 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마지막주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안할 수 도 있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544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신경계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장님 외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6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위주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PNF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흡운동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bobath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-284400">
              <a:lnSpc>
                <a:spcPct val="2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modality, manua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외래환자 우선으로함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4572000" y="1447920"/>
            <a:ext cx="3476520" cy="41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2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FES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FES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동치료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스트레칭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ROM, FES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부분의 전문적인 치료를 볼 수 있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직접 환자를  다룰 수 있는 기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종합병원급의 시스템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및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onference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참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설낙후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 시간 때 쉴 공간이 없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에는 밥이 맛없었다고 하나 그냥 그럭저럭 먹을만 함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 말고는 계속 서 있어야함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분야로 나뉘어 있어서 모든 분야를 경험 할 수 있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영대병원으로 오세용 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^</a:t>
            </a: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ㅁ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^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Staff</cp:lastModifiedBy>
  <dcterms:modified xsi:type="dcterms:W3CDTF">2009-04-11T08:29:44Z</dcterms:modified>
  <cp:revision>11</cp:revision>
  <dc:subject/>
  <dc:title>영남대학교의료원</dc:title>
</cp:coreProperties>
</file>